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73D-3204-4F87-9F29-1F9A702B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EC8-B4AE-431D-8526-13EE4A21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8DA4-3AB3-4BD8-A12B-6167F494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D2D-446F-4DC7-AE33-3C63F40C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6EF3-225E-4B58-957A-4B73AB84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D77D-CFC4-4ACA-BA4C-8A4006D4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9E10-34C6-4E21-A599-B2D0D710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C610-8656-4AD7-A21D-BC412C6B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88BC-0540-4C16-A43B-53D76677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DE36-B9BD-484F-B850-D74E9005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E046-C4EB-46B9-BD25-1B8EFFB7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EA2E-6626-47B1-8A36-432AE98A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57AF-EE2B-4CA8-A662-7DEFE8D5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1A55-9AA4-4293-8457-9F8B9D1F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879D-CC6C-430E-9270-B43803E4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1318-E527-46E5-A138-66B559CB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9E07-17B1-493A-AE19-B78F9F72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23F-4B6C-4CF9-A932-3027621C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EE4-C2C6-437D-A52F-E3353ECB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581-A7BF-4296-9ADB-86CAD7F6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104-5E31-446C-8B55-528F942F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B0F-4E3A-4606-A5C2-CC2EE19A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9C0-1EE1-4FD8-BA68-FB6FEF19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792-D7C1-4123-AF49-BC6B3EF8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30EA-B5ED-4325-B353-8E2F782A8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1C06-14B6-412B-B11B-8E752A358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333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66"/>
                </a:solidFill>
                <a:latin typeface="Tahoma"/>
              </a:rPr>
              <a:t>PRIMERI „LOŠE PRAKSE“ U EVIDENCIJI PODATAKA O MORTALITETU</a:t>
            </a:r>
            <a:r>
              <a:rPr b="0" lang="sr-Latn-CS" sz="4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66"/>
                </a:solidFill>
                <a:latin typeface="Comic Sans MS"/>
              </a:rPr>
              <a:t>Svetlana S. Stev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66"/>
                </a:solidFill>
                <a:latin typeface="Comic Sans MS"/>
              </a:rPr>
              <a:t>Institut za javno zdravlje Ni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3366"/>
                </a:solidFill>
                <a:latin typeface="Tahoma"/>
              </a:rPr>
              <a:t>ZAKLJUČAK</a:t>
            </a:r>
            <a:r>
              <a:rPr b="1" lang="sr-Latn-CS" sz="40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84280" y="240048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003366"/>
                </a:solidFill>
                <a:latin typeface="Tahoma"/>
              </a:rPr>
              <a:t>Unapredjenje kvaliteta mortalitetne statistike u našoj zemlji zahteva </a:t>
            </a: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standardizaciju</a:t>
            </a:r>
            <a:r>
              <a:rPr b="0" lang="sr-Latn-CS" sz="2800" spc="-1" strike="noStrike">
                <a:solidFill>
                  <a:srgbClr val="003366"/>
                </a:solidFill>
                <a:latin typeface="Tahoma"/>
              </a:rPr>
              <a:t> procesa prikupljanja, šifriranja i obrade podataka o uzroku smrti u skladu sa preporukama EUROSTATA, odnosno SZ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1760"/>
            <a:ext cx="9144000" cy="67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sr-Latn-CS" sz="3200" spc="-1" strike="noStrike">
                <a:solidFill>
                  <a:srgbClr val="003366"/>
                </a:solidFill>
                <a:latin typeface="Tahoma"/>
              </a:rPr>
              <a:t>CILJ: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sr-Latn-CS" sz="2200" spc="-1" strike="noStrike">
                <a:solidFill>
                  <a:srgbClr val="ff0000"/>
                </a:solidFill>
                <a:latin typeface="Tahoma"/>
              </a:rPr>
              <a:t>Napredak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u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evidenciji podataka o mortalitetu kroz analizu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primera „loše prakse“ u popunjavanju P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sr-Latn-CS" sz="3200" spc="-1" strike="noStrike">
                <a:solidFill>
                  <a:srgbClr val="003366"/>
                </a:solidFill>
                <a:latin typeface="Tahoma"/>
              </a:rPr>
              <a:t>METOD RADA: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Formalna i logička kontrola POS sa područja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Nišavskog i Topličkog okruga i šifriranje osnovnog uzroka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smrti u periodu 2005-2009.god. Prikaz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i anali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z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a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najučestalijih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  nepravilnosti kroz </a:t>
            </a:r>
            <a:r>
              <a:rPr b="1" lang="sr-Latn-CS" sz="2200" spc="-1" strike="noStrike">
                <a:solidFill>
                  <a:srgbClr val="ff0000"/>
                </a:solidFill>
                <a:latin typeface="Tahoma"/>
              </a:rPr>
              <a:t>karakteristične primere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sr-Latn-CS" sz="3200" spc="-1" strike="noStrike">
                <a:solidFill>
                  <a:srgbClr val="003366"/>
                </a:solidFill>
                <a:latin typeface="Tahoma"/>
              </a:rPr>
              <a:t>REZULTATI i DISKUSIJ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Najčešće </a:t>
            </a:r>
            <a:r>
              <a:rPr b="1" i="1" lang="sr-Latn-CS" sz="2200" spc="-1" strike="noStrike">
                <a:solidFill>
                  <a:srgbClr val="ff0000"/>
                </a:solidFill>
                <a:latin typeface="Tahoma"/>
              </a:rPr>
              <a:t>NEPRAVILNOSTI </a:t>
            </a:r>
            <a:r>
              <a:rPr b="1" i="1" lang="sr-Latn-CS" sz="2200" spc="-1" strike="noStrike">
                <a:solidFill>
                  <a:srgbClr val="003366"/>
                </a:solidFill>
                <a:latin typeface="Tahoma"/>
              </a:rPr>
              <a:t>u  popunjavanju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POS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su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66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više dijagnoza 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u kontinuitetu,</a:t>
            </a: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 bez pravilnog redosleda i sa ponavljanjem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2)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koriste se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skraćenice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3) neuskladje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no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je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poreklo smrti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(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čak i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pol)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sa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dijagnozom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4)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upisana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terapija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 (operacija)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a ne bolest/povreda;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5)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upisani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simptomi/znaci bolesti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(</a:t>
            </a:r>
            <a:r>
              <a:rPr b="0" i="1" lang="hr-HR" sz="2200" spc="-1" strike="noStrike">
                <a:solidFill>
                  <a:srgbClr val="003366"/>
                </a:solidFill>
                <a:latin typeface="Tahoma"/>
              </a:rPr>
              <a:t>vomitus, vertigo, </a:t>
            </a:r>
            <a:r>
              <a:rPr b="0" i="1" lang="en-US" sz="2200" spc="-1" strike="noStrike">
                <a:solidFill>
                  <a:srgbClr val="003366"/>
                </a:solidFill>
                <a:latin typeface="Tahoma"/>
              </a:rPr>
              <a:t>cephalea,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hr-HR" sz="2200" spc="-1" strike="noStrike">
                <a:solidFill>
                  <a:srgbClr val="003366"/>
                </a:solidFill>
                <a:latin typeface="Tahoma"/>
              </a:rPr>
              <a:t>opstipatio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0" i="1" lang="hr-HR" sz="2200" spc="-1" strike="noStrike">
                <a:solidFill>
                  <a:srgbClr val="003366"/>
                </a:solidFill>
                <a:latin typeface="Tahoma"/>
              </a:rPr>
              <a:t>pyrosis, singultus, dyspepsio...</a:t>
            </a:r>
            <a:r>
              <a:rPr b="0" i="1" lang="en-US" sz="2200" spc="-1" strike="noStrike">
                <a:solidFill>
                  <a:srgbClr val="003366"/>
                </a:solidFill>
                <a:latin typeface="Tahoma"/>
              </a:rPr>
              <a:t>!!!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)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6)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upisana dijagnoza koja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NE 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može biti uzrok smrti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7)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upisane čak i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„duhovite opaske“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66"/>
                </a:solidFill>
                <a:latin typeface="Tahoma"/>
              </a:rPr>
              <a:t>UVOD:</a:t>
            </a:r>
            <a:r>
              <a:rPr b="0" lang="sr-Latn-CS" sz="4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114480" y="1170000"/>
            <a:ext cx="8991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Statistika mortaliteta je i danas jedan od osnovnih izvora zdravstvenih informacija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. U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mnogim zemljama predstavlja najpouzdaniji tip zdravstveno-statističkih podataka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3366"/>
                </a:solidFill>
                <a:latin typeface="Tahoma"/>
              </a:rPr>
              <a:t>U Srbiji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je </a:t>
            </a:r>
            <a:r>
              <a:rPr b="1" lang="pl-PL" sz="2200" spc="-1" strike="noStrike">
                <a:solidFill>
                  <a:srgbClr val="003366"/>
                </a:solidFill>
                <a:latin typeface="Tahoma"/>
              </a:rPr>
              <a:t>2005.god.</a:t>
            </a:r>
            <a:r>
              <a:rPr b="0" lang="pl-PL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uve</a:t>
            </a:r>
            <a:r>
              <a:rPr b="0" lang="pl-PL" sz="2200" spc="-1" strike="noStrike">
                <a:solidFill>
                  <a:srgbClr val="003366"/>
                </a:solidFill>
                <a:latin typeface="Tahoma"/>
              </a:rPr>
              <a:t>den 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novi obrazac PO</a:t>
            </a:r>
            <a:r>
              <a:rPr b="1" lang="pl-PL" sz="2200" spc="-1" strike="noStrike">
                <a:solidFill>
                  <a:srgbClr val="003366"/>
                </a:solidFill>
                <a:latin typeface="Tahoma"/>
              </a:rPr>
              <a:t>TVRDE O SMRTI 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(POS)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. 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Logička kontrola, šifriranje uzroka smrti i unos podataka u bazu o mortalitetu, bio je posao Republičkog zavoda za statistiku – Beograd. P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rikupljanje POS na teritoriji Republike bilo je centralizovano, a lekar-šifrant je bio značajno ograničen u mogućnostima korekcije nepotpunosti/nepravilnosti u obrascu. Od 2005.godine su 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instituti i zavodi za javno zdravlje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preuzeli </a:t>
            </a:r>
            <a:r>
              <a:rPr b="0" lang="pl-PL" sz="2200" spc="-1" strike="noStrike">
                <a:solidFill>
                  <a:srgbClr val="003366"/>
                </a:solidFill>
                <a:latin typeface="Tahoma"/>
              </a:rPr>
              <a:t>su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odgovornost za kvalitet podataka o uzroku smrti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Na teritoriji Nišavskog i Topličkog okruga nije u svim opštinama formirana služba za utvrdjivanje vremena i uzroka smrti (mrtvozoračka služba) tako da </a:t>
            </a:r>
            <a:r>
              <a:rPr b="0" lang="sr-Latn-CS" sz="2200" spc="-1" strike="noStrike" u="sng">
                <a:solidFill>
                  <a:srgbClr val="003366"/>
                </a:solidFill>
                <a:uFillTx/>
                <a:latin typeface="Tahoma"/>
              </a:rPr>
              <a:t>POS, za umrle van zdravstvene ustanove, </a:t>
            </a:r>
            <a:r>
              <a:rPr b="0" i="1" lang="sr-Latn-CS" sz="2200" spc="-1" strike="noStrike" u="sng">
                <a:solidFill>
                  <a:srgbClr val="003366"/>
                </a:solidFill>
                <a:uFillTx/>
                <a:latin typeface="Tahoma"/>
              </a:rPr>
              <a:t>popunjavaju i lekari primarne zdravstvene zaštite</a:t>
            </a:r>
            <a:r>
              <a:rPr b="0" lang="sr-Latn-CS" sz="2200" spc="-1" strike="noStrike" u="sng">
                <a:solidFill>
                  <a:srgbClr val="003366"/>
                </a:solidFill>
                <a:uFillTx/>
                <a:latin typeface="Tahoma"/>
              </a:rPr>
              <a:t> koji su za te poslove ovlašćeni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-16560"/>
            <a:ext cx="9144000" cy="68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66"/>
                </a:solidFill>
                <a:latin typeface="Tahoma"/>
              </a:rPr>
              <a:t>CILJ</a:t>
            </a:r>
            <a:r>
              <a:rPr b="1" lang="sr-Latn-CS" sz="3200" spc="-1" strike="noStrike">
                <a:solidFill>
                  <a:srgbClr val="003366"/>
                </a:solidFill>
                <a:latin typeface="Tahoma"/>
              </a:rPr>
              <a:t>: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Napredak u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evidenciji podataka o mortalitetu kroz analizu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primera „loše prakse“ u popunjavanju P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66"/>
                </a:solidFill>
                <a:latin typeface="Tahoma"/>
              </a:rPr>
              <a:t>METOD RADA</a:t>
            </a:r>
            <a:r>
              <a:rPr b="1" lang="sr-Latn-CS" sz="3200" spc="-1" strike="noStrike">
                <a:solidFill>
                  <a:srgbClr val="003366"/>
                </a:solidFill>
                <a:latin typeface="Tahoma"/>
              </a:rPr>
              <a:t>: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Formalna i logička kontrola POS sa područja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Nišavskog i Topličkog okruga i šifriranje osnovnog uzroka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smrti u periodu 2005-2009.god. Prikaz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i anali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z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a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najučestalijih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  nepravilnosti kroz </a:t>
            </a:r>
            <a:r>
              <a:rPr b="1" lang="sr-Latn-CS" sz="2200" spc="-1" strike="noStrike">
                <a:solidFill>
                  <a:srgbClr val="ff0000"/>
                </a:solidFill>
                <a:latin typeface="Tahoma"/>
              </a:rPr>
              <a:t>karakteristične primere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3366"/>
                </a:solidFill>
                <a:latin typeface="Tahoma"/>
              </a:rPr>
              <a:t>REZULTATI i DISKUSIJA</a:t>
            </a:r>
            <a:r>
              <a:rPr b="1" lang="sr-Latn-CS" sz="3200" spc="-1" strike="noStrike">
                <a:solidFill>
                  <a:srgbClr val="003366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Najčešće </a:t>
            </a:r>
            <a:r>
              <a:rPr b="1" i="1" lang="sr-Latn-CS" sz="2200" spc="-1" strike="noStrike">
                <a:solidFill>
                  <a:srgbClr val="ff0000"/>
                </a:solidFill>
                <a:latin typeface="Tahoma"/>
              </a:rPr>
              <a:t>NEPRAVILNOSTI </a:t>
            </a:r>
            <a:r>
              <a:rPr b="1" i="1" lang="sr-Latn-CS" sz="2200" spc="-1" strike="noStrike">
                <a:solidFill>
                  <a:srgbClr val="003366"/>
                </a:solidFill>
                <a:latin typeface="Tahoma"/>
              </a:rPr>
              <a:t>u  popunjavanju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POS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su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više dijagnoza 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u kontinuitetu,</a:t>
            </a: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 bez pravilnog redosleda i sa ponavljanjem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2)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koriste se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skraćenice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3) neuskladje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no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je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poreklo smrti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(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čak i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pol)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sa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dijagnozom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4)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upisana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terapija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 (operacija)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a ne bolest/povreda;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5)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upisani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simptomi/znaci bolesti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(</a:t>
            </a:r>
            <a:r>
              <a:rPr b="0" i="1" lang="hr-HR" sz="2200" spc="-1" strike="noStrike">
                <a:solidFill>
                  <a:srgbClr val="003366"/>
                </a:solidFill>
                <a:latin typeface="Tahoma"/>
              </a:rPr>
              <a:t>vomitus, vertigo, </a:t>
            </a:r>
            <a:r>
              <a:rPr b="0" i="1" lang="en-US" sz="2200" spc="-1" strike="noStrike">
                <a:solidFill>
                  <a:srgbClr val="003366"/>
                </a:solidFill>
                <a:latin typeface="Tahoma"/>
              </a:rPr>
              <a:t>cephalea,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hr-HR" sz="2200" spc="-1" strike="noStrike">
                <a:solidFill>
                  <a:srgbClr val="003366"/>
                </a:solidFill>
                <a:latin typeface="Tahoma"/>
              </a:rPr>
              <a:t>opstipatio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0" i="1" lang="hr-HR" sz="2200" spc="-1" strike="noStrike">
                <a:solidFill>
                  <a:srgbClr val="003366"/>
                </a:solidFill>
                <a:latin typeface="Tahoma"/>
              </a:rPr>
              <a:t>pyrosis, singultus, dyspepsio...</a:t>
            </a:r>
            <a:r>
              <a:rPr b="0" i="1" lang="en-US" sz="2200" spc="-1" strike="noStrike">
                <a:solidFill>
                  <a:srgbClr val="003366"/>
                </a:solidFill>
                <a:latin typeface="Tahoma"/>
              </a:rPr>
              <a:t>!!!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)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6)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upisana dijagnoza koja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NE 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može biti uzrok smrti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7)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upisane čak i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„duhovite opaske“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4559760"/>
            <a:ext cx="4038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Pacijent je umro u zdravstvenoj ustanovi.  U odelj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ak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 I UZROKA SMRTI upisane su dijagnoze </a:t>
            </a:r>
            <a:r>
              <a:rPr b="1" lang="sr-Latn-CS" sz="1400" spc="-1" strike="noStrike">
                <a:solidFill>
                  <a:srgbClr val="ff0000"/>
                </a:solidFill>
                <a:latin typeface="Tahoma"/>
              </a:rPr>
              <a:t>bez pravilnog redosleda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 (</a:t>
            </a:r>
            <a:r>
              <a:rPr b="1" lang="sr-Latn-CS" sz="1400" spc="-1" strike="noStrike" u="sng">
                <a:solidFill>
                  <a:srgbClr val="003366"/>
                </a:solidFill>
                <a:uFillTx/>
                <a:latin typeface="Tahoma"/>
              </a:rPr>
              <a:t>Fractura corporis vert.Th 12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 NE MOŽE uzrokovati </a:t>
            </a:r>
            <a:r>
              <a:rPr b="1" lang="sr-Latn-CS" sz="1400" spc="-1" strike="noStrike" u="sng">
                <a:solidFill>
                  <a:srgbClr val="003366"/>
                </a:solidFill>
                <a:uFillTx/>
                <a:latin typeface="Tahoma"/>
              </a:rPr>
              <a:t>Tu sigme (ili akutnog koronarnog sindroma)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, a ovaj NE MOŽE biti uzrok </a:t>
            </a:r>
            <a:r>
              <a:rPr b="1" lang="sr-Latn-CS" sz="1400" spc="-1" strike="noStrike" u="sng">
                <a:solidFill>
                  <a:srgbClr val="003366"/>
                </a:solidFill>
                <a:uFillTx/>
                <a:latin typeface="Tahoma"/>
              </a:rPr>
              <a:t>dijabeta sa komplikacijama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). Iste dijagnoze </a:t>
            </a:r>
            <a:r>
              <a:rPr b="1" lang="sr-Latn-CS" sz="1400" spc="-1" strike="noStrike">
                <a:solidFill>
                  <a:srgbClr val="ff0000"/>
                </a:solidFill>
                <a:latin typeface="Tahoma"/>
              </a:rPr>
              <a:t>se ponavljaju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 u delu II UZROKA SMRTI!!!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0" t="0" r="1613" b="0"/>
          <a:stretch/>
        </p:blipFill>
        <p:spPr>
          <a:xfrm>
            <a:off x="189000" y="304920"/>
            <a:ext cx="4343400" cy="4117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648320" y="304920"/>
            <a:ext cx="4362480" cy="41241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</p:pic>
      <p:sp>
        <p:nvSpPr>
          <p:cNvPr id="90" name=""/>
          <p:cNvSpPr/>
          <p:nvPr/>
        </p:nvSpPr>
        <p:spPr>
          <a:xfrm>
            <a:off x="4419720" y="4706280"/>
            <a:ext cx="4687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Pacijent je umro 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VAN 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zdravstvene ustanove.</a:t>
            </a: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ao uzrok smrti upisane su 4 </a:t>
            </a:r>
            <a:r>
              <a:rPr b="1" lang="sr-Latn-CS" sz="1400" spc="-1" strike="noStrike">
                <a:solidFill>
                  <a:srgbClr val="ff0000"/>
                </a:solidFill>
                <a:latin typeface="Tahoma"/>
              </a:rPr>
              <a:t>SKRAĆENICE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. Ukoliko 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one 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znače: MOD=multiorganska disfunkcija; HTA=arterijska hipertenzija; CHMP=hronična kardiomiopatija; MS=multipla skleroza, </a:t>
            </a:r>
            <a:r>
              <a:rPr b="1" lang="sr-Latn-CS" sz="1400" spc="-1" strike="noStrike">
                <a:solidFill>
                  <a:srgbClr val="ff0000"/>
                </a:solidFill>
                <a:latin typeface="Tahoma"/>
              </a:rPr>
              <a:t>ostaje dilema koja dijagnoza je uzrok smrti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!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4798440"/>
            <a:ext cx="4361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Pacijent je umro u zdravstvenoj ustanovi. Upisana dijagnoza odgovara upisanoj šifri prema MKB-X (</a:t>
            </a:r>
            <a:r>
              <a:rPr b="1" lang="sr-Latn-CS" sz="1400" spc="-1" strike="noStrike" u="sng">
                <a:solidFill>
                  <a:srgbClr val="ff0000"/>
                </a:solidFill>
                <a:uFillTx/>
                <a:latin typeface="Tahoma"/>
              </a:rPr>
              <a:t>KARCINOM UTERUSA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), ali se radi o </a:t>
            </a:r>
            <a:r>
              <a:rPr b="1" lang="sr-Latn-CS" sz="1400" spc="-1" strike="noStrike">
                <a:solidFill>
                  <a:srgbClr val="ff0000"/>
                </a:solidFill>
                <a:latin typeface="Tahoma"/>
              </a:rPr>
              <a:t>MUŠKARCU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!!! Ni posle pismenog zahteva za korekcijom odgovor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a nema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!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Kao UZROK SMRTI šifrirano je R99 (M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ors alia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causa non specificata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267080" cy="3987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64160" y="237960"/>
            <a:ext cx="4267080" cy="40086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</p:pic>
      <p:sp>
        <p:nvSpPr>
          <p:cNvPr id="94" name=""/>
          <p:cNvSpPr/>
          <p:nvPr/>
        </p:nvSpPr>
        <p:spPr>
          <a:xfrm>
            <a:off x="4724280" y="4430880"/>
            <a:ext cx="4191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Pacijent je umro u zdravstvenoj ustanovi, na ortopediji. Zaokruženo je poreklo uzroka smrti i  </a:t>
            </a:r>
            <a:r>
              <a:rPr b="1" lang="sr-Latn-CS" sz="1400" spc="-1" strike="noStrike">
                <a:solidFill>
                  <a:srgbClr val="ff0000"/>
                </a:solidFill>
                <a:latin typeface="Tahoma"/>
              </a:rPr>
              <a:t>PRIRODNO 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i </a:t>
            </a:r>
            <a:r>
              <a:rPr b="1" lang="sr-Latn-CS" sz="1400" spc="-1" strike="noStrike">
                <a:solidFill>
                  <a:srgbClr val="ff0000"/>
                </a:solidFill>
                <a:latin typeface="Tahoma"/>
              </a:rPr>
              <a:t>NEUTVRDJENO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, a 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upisane 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su RAZLIČITE DIJAGNOZE od kojih su neke </a:t>
            </a:r>
            <a:r>
              <a:rPr b="1" lang="sr-Latn-CS" sz="1400" spc="-1" strike="noStrike">
                <a:solidFill>
                  <a:srgbClr val="ff0000"/>
                </a:solidFill>
                <a:latin typeface="Tahoma"/>
              </a:rPr>
              <a:t>POVREDE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 (</a:t>
            </a:r>
            <a:r>
              <a:rPr b="1" lang="sr-Latn-CS" sz="1400" spc="-1" strike="noStrike" u="sng">
                <a:solidFill>
                  <a:srgbClr val="003366"/>
                </a:solidFill>
                <a:uFillTx/>
                <a:latin typeface="Tahoma"/>
              </a:rPr>
              <a:t>Fractura colli femoris sin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). Moguće je da se radi o smrti </a:t>
            </a:r>
            <a:r>
              <a:rPr b="1" lang="sr-Latn-CS" sz="1400" spc="-1" strike="noStrike" u="sng">
                <a:solidFill>
                  <a:srgbClr val="003366"/>
                </a:solidFill>
                <a:uFillTx/>
                <a:latin typeface="Tahoma"/>
              </a:rPr>
              <a:t>PRIRODNOG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 porekla gde je uzrok smrti kardiomiopatija ili hipertenzija! Ali je moguće da su zadobijene povrede (i komplikacije) uzrok smrti, tako da je smrt </a:t>
            </a:r>
            <a:r>
              <a:rPr b="1" lang="sr-Latn-CS" sz="1400" spc="-1" strike="noStrike" u="sng">
                <a:solidFill>
                  <a:srgbClr val="003366"/>
                </a:solidFill>
                <a:uFillTx/>
                <a:latin typeface="Tahoma"/>
              </a:rPr>
              <a:t>NASILNOG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 porekla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6920" y="4267440"/>
            <a:ext cx="4406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Pacijent je umro u zdravstvenoj ustanovi na kardiohirurškom odeljenju. Nije zaokruženo je poreklo smrti, a 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upisane 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su RAZLIČITE DIJAGNOZE od kojih su neke </a:t>
            </a:r>
            <a:r>
              <a:rPr b="1" lang="sr-Latn-CS" sz="1400" spc="-1" strike="noStrike">
                <a:solidFill>
                  <a:srgbClr val="ff0000"/>
                </a:solidFill>
                <a:latin typeface="Tahoma"/>
              </a:rPr>
              <a:t>OBOLJENJA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 (</a:t>
            </a:r>
            <a:r>
              <a:rPr b="1" lang="sr-Latn-CS" sz="1400" spc="-1" strike="noStrike" u="sng">
                <a:solidFill>
                  <a:srgbClr val="003366"/>
                </a:solidFill>
                <a:uFillTx/>
                <a:latin typeface="Tahoma"/>
              </a:rPr>
              <a:t>Cmp chr. ischaemica, Arrhitmia absoluta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), a druga je </a:t>
            </a:r>
            <a:r>
              <a:rPr b="1" lang="sr-Latn-CS" sz="1400" spc="-1" strike="noStrike">
                <a:solidFill>
                  <a:srgbClr val="ff0000"/>
                </a:solidFill>
                <a:latin typeface="Tahoma"/>
              </a:rPr>
              <a:t>OPERACIJA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! Moguće je da se radi o smrti </a:t>
            </a:r>
            <a:r>
              <a:rPr b="1" lang="sr-Latn-CS" sz="1400" spc="-1" strike="noStrike" u="sng">
                <a:solidFill>
                  <a:srgbClr val="003366"/>
                </a:solidFill>
                <a:uFillTx/>
                <a:latin typeface="Tahoma"/>
              </a:rPr>
              <a:t>PRIRODNOG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 porekla i da je uzrok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 jedno od dva navedena oboljenja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, a moguće je da je smrt </a:t>
            </a:r>
            <a:r>
              <a:rPr b="1" lang="sr-Latn-CS" sz="1400" spc="-1" strike="noStrike" u="sng">
                <a:solidFill>
                  <a:srgbClr val="003366"/>
                </a:solidFill>
                <a:uFillTx/>
                <a:latin typeface="Tahoma"/>
              </a:rPr>
              <a:t>NASILNA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 i da je pacijent umro usled komplikacija medicinskog lečenja (ugradnja pejsmejkera)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343400" cy="4027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28600"/>
            <a:ext cx="4336920" cy="4044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</p:pic>
      <p:sp>
        <p:nvSpPr>
          <p:cNvPr id="98" name=""/>
          <p:cNvSpPr/>
          <p:nvPr/>
        </p:nvSpPr>
        <p:spPr>
          <a:xfrm>
            <a:off x="4797360" y="4401000"/>
            <a:ext cx="40435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Pacijent je umro u zdravstvenoj ustanovi. U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pisana je </a:t>
            </a: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VRSTA OPERACIJE, a ne oboljenje/povreda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zbog koje je ona obavljena! Prema MKB-X šifrira se 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K92.9 (bolest organa za varenje, neoznačena), a to je grupa </a:t>
            </a:r>
            <a:r>
              <a:rPr b="1" lang="sr-Latn-CS" sz="1400" spc="-1" strike="noStrike">
                <a:solidFill>
                  <a:srgbClr val="ff0000"/>
                </a:solidFill>
                <a:latin typeface="Tahoma"/>
              </a:rPr>
              <a:t>BOLESTI SISTEMA ZA VARENJE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 (K00-K93). Ali, ukoliko je uzrok smrti pacijenta TUMOR CREVA zbog koga je operisan</a:t>
            </a:r>
            <a:r>
              <a:rPr b="1" i="1" lang="sr-Latn-CS" sz="14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šifiraće se dijagnoza koja pripada grupi </a:t>
            </a:r>
            <a:r>
              <a:rPr b="1" lang="sr-Latn-CS" sz="1400" spc="-1" strike="noStrike">
                <a:solidFill>
                  <a:srgbClr val="ff0000"/>
                </a:solidFill>
                <a:latin typeface="Tahoma"/>
              </a:rPr>
              <a:t>TUMORI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 (C00-D48)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5335200"/>
            <a:ext cx="4803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Pacijent je umro 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VAN 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zdravstvene ustanove. Dijagnoza i šifra iz ove P</a:t>
            </a: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OS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 je </a:t>
            </a:r>
            <a:r>
              <a:rPr b="1" lang="sr-Latn-CS" sz="1400" spc="-1" strike="noStrike" u="sng">
                <a:solidFill>
                  <a:srgbClr val="003366"/>
                </a:solidFill>
                <a:uFillTx/>
                <a:latin typeface="Tahoma"/>
              </a:rPr>
              <a:t>PROLAZNA MOŽDANA ISHEMIJA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, a ona  </a:t>
            </a:r>
            <a:r>
              <a:rPr b="1" lang="sr-Latn-CS" sz="1400" spc="-1" strike="noStrike">
                <a:solidFill>
                  <a:srgbClr val="ff0000"/>
                </a:solidFill>
                <a:latin typeface="Tahoma"/>
              </a:rPr>
              <a:t>NE MOŽE BITI UZROK SMRTI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! Jedina upisana dijagnoza ukazuje na </a:t>
            </a:r>
            <a:r>
              <a:rPr b="1" lang="sr-Latn-CS" sz="1400" spc="-1" strike="noStrike" u="sng">
                <a:solidFill>
                  <a:srgbClr val="003366"/>
                </a:solidFill>
                <a:uFillTx/>
                <a:latin typeface="Tahoma"/>
              </a:rPr>
              <a:t>PRIRODNU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  smrt, A POPUNJEN JE DEO KOJI SE ODNOSI NA </a:t>
            </a:r>
            <a:r>
              <a:rPr b="1" lang="sr-Latn-CS" sz="1400" spc="-1" strike="noStrike" u="sng">
                <a:solidFill>
                  <a:srgbClr val="003366"/>
                </a:solidFill>
                <a:uFillTx/>
                <a:latin typeface="Tahoma"/>
              </a:rPr>
              <a:t>NASILNU</a:t>
            </a:r>
            <a:r>
              <a:rPr b="1" lang="sr-Latn-CS" sz="1400" spc="-1" strike="noStrike">
                <a:solidFill>
                  <a:srgbClr val="003366"/>
                </a:solidFill>
                <a:latin typeface="Tahoma"/>
              </a:rPr>
              <a:t> SMRT!</a:t>
            </a:r>
            <a:r>
              <a:rPr b="0" lang="sr-Latn-CS" sz="1400" spc="-1" strike="noStrike">
                <a:solidFill>
                  <a:srgbClr val="003366"/>
                </a:solidFill>
                <a:latin typeface="Tahoma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0" t="8211" r="0" b="0"/>
          <a:stretch/>
        </p:blipFill>
        <p:spPr>
          <a:xfrm>
            <a:off x="533520" y="152280"/>
            <a:ext cx="3943080" cy="5181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724280" y="1392120"/>
            <a:ext cx="4184640" cy="39420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</p:pic>
      <p:sp>
        <p:nvSpPr>
          <p:cNvPr id="102" name=""/>
          <p:cNvSpPr/>
          <p:nvPr/>
        </p:nvSpPr>
        <p:spPr>
          <a:xfrm>
            <a:off x="5181480" y="5486040"/>
            <a:ext cx="354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66"/>
                </a:solidFill>
                <a:latin typeface="Tahoma"/>
              </a:rPr>
              <a:t>Pacijent je umro u </a:t>
            </a:r>
            <a:r>
              <a:rPr b="1" lang="sr-Latn-CS" sz="1800" spc="-1" strike="noStrike">
                <a:solidFill>
                  <a:srgbClr val="ff0000"/>
                </a:solidFill>
                <a:latin typeface="Tahoma"/>
              </a:rPr>
              <a:t>Kliničkom centru Niš.</a:t>
            </a:r>
            <a:r>
              <a:rPr b="1" lang="sr-Latn-CS" sz="1800" spc="-1" strike="noStrike">
                <a:solidFill>
                  <a:srgbClr val="003366"/>
                </a:solidFill>
                <a:latin typeface="Tahoma"/>
              </a:rPr>
              <a:t> Komentar nije potreba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9360" y="291960"/>
            <a:ext cx="876312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A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naliz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a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primera 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„loše prakse“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analogno kliničkom „prikazu slučaja“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treba da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podstakne razmišljanje i diskusiju na temu pouzdanosti podataka o mortalitetu kod na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S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ve nepravilnosti, bez obzira na učestalost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 (u %)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, imaju zajednički imenitelj: 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nepoznavanje pravila popunjavanja POS ili neodgovornost u evidenciji podataka o mortalitetu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.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Prilikom uvodjenja novog obrasca POS, na republičkom nivou, </a:t>
            </a:r>
            <a:r>
              <a:rPr b="1" i="1" lang="sr-Latn-CS" sz="2200" spc="-1" strike="noStrike">
                <a:solidFill>
                  <a:srgbClr val="003366"/>
                </a:solidFill>
                <a:latin typeface="Tahoma"/>
              </a:rPr>
              <a:t>nisu definisani</a:t>
            </a:r>
            <a:r>
              <a:rPr b="0" i="1" lang="sr-Latn-CS" sz="2200" spc="-1" strike="noStrike">
                <a:solidFill>
                  <a:srgbClr val="003366"/>
                </a:solidFill>
                <a:latin typeface="Tahoma"/>
              </a:rPr>
              <a:t>: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postupak dopune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ili izmene podataka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vremenski rok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u kome su lekari koji popunjavaju POS dužni da izvrše korekcije nepravilnosti i dostave ih regionalnim zavodima/institutima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edukacija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svih lekara uključenih u proces rada (od mrtvozorca do obducenta)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telo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/organ/osoba koja bi bila 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zadužena za usaglašavanje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načina na koji se isti ili slični problemi iz prakse rešavaju na republičkom nivo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480" y="63360"/>
            <a:ext cx="8991360" cy="70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Prema SZO </a:t>
            </a:r>
            <a:r>
              <a:rPr b="1" i="1" lang="sr-Latn-CS" sz="2200" spc="-1" strike="noStrike">
                <a:solidFill>
                  <a:srgbClr val="003366"/>
                </a:solidFill>
                <a:latin typeface="Tahoma"/>
              </a:rPr>
              <a:t>kvalitet podataka o uzroku smrti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zavisi o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Oblika POTVRDE O SMR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Načina popunjavanja POTVRDE O SMR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Obučenosti (edukovanosti) lekara/mrtvozor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Dopune podataka koji nedostaju na POTVRDI O SMRT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Šifriranja uzroka smrti (težnja ka primeni </a:t>
            </a:r>
            <a:r>
              <a:rPr b="0" i="1" lang="sr-Latn-CS" sz="2200" spc="-1" strike="noStrike">
                <a:solidFill>
                  <a:srgbClr val="003366"/>
                </a:solidFill>
                <a:latin typeface="Tahoma"/>
              </a:rPr>
              <a:t>automatskog šifriranja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EUROSTAT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(statistički ured EU) je izradio </a:t>
            </a:r>
            <a:r>
              <a:rPr b="0" i="1" lang="sr-Latn-CS" sz="2200" spc="-1" strike="noStrike">
                <a:solidFill>
                  <a:srgbClr val="003366"/>
                </a:solidFill>
                <a:latin typeface="Tahoma"/>
              </a:rPr>
              <a:t>standarde i instrumente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koji osiguravaju ujednačen način prikupljanja, šifriranja i obrade podataka o uzroku smrti, u cilju usaglašavanja mortalitetnih podataka na području E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Ameri</a:t>
            </a: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č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ki National Center for Health Statistics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(</a:t>
            </a:r>
            <a:r>
              <a:rPr b="1" lang="sr-Latn-CS" sz="2200" spc="-1" strike="noStrike">
                <a:solidFill>
                  <a:srgbClr val="003366"/>
                </a:solidFill>
                <a:latin typeface="Tahoma"/>
              </a:rPr>
              <a:t>NCHS</a:t>
            </a: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)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je vode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ć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a organizacija na podru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č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ju </a:t>
            </a:r>
            <a:r>
              <a:rPr b="0" i="1" lang="sr-Latn-CS" sz="2200" spc="-1" strike="noStrike">
                <a:solidFill>
                  <a:srgbClr val="003366"/>
                </a:solidFill>
                <a:latin typeface="Tahoma"/>
              </a:rPr>
              <a:t>razvoja automatskog</a:t>
            </a:r>
            <a:r>
              <a:rPr b="0" i="1" lang="hr-HR" sz="2200" spc="-1" strike="noStrike">
                <a:solidFill>
                  <a:srgbClr val="003366"/>
                </a:solidFill>
                <a:latin typeface="Tahoma"/>
              </a:rPr>
              <a:t> š</a:t>
            </a:r>
            <a:r>
              <a:rPr b="0" i="1" lang="sr-Latn-CS" sz="2200" spc="-1" strike="noStrike">
                <a:solidFill>
                  <a:srgbClr val="003366"/>
                </a:solidFill>
                <a:latin typeface="Tahoma"/>
              </a:rPr>
              <a:t>ifriranja uzroka smrti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koji se primjenjuje u ve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ć</a:t>
            </a: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ini zemalja zapadne Evrope i Severne Amerike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NCHS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je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jedan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od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inicijatora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osnivanja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International</a:t>
            </a: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Collaborative</a:t>
            </a: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Effort</a:t>
            </a: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on</a:t>
            </a: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Automating</a:t>
            </a: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Morality</a:t>
            </a: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Statistics</a:t>
            </a: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 (</a:t>
            </a:r>
            <a:r>
              <a:rPr b="1" lang="en-US" sz="2200" spc="-1" strike="noStrike">
                <a:solidFill>
                  <a:srgbClr val="003366"/>
                </a:solidFill>
                <a:latin typeface="Tahoma"/>
              </a:rPr>
              <a:t>ICE</a:t>
            </a:r>
            <a:r>
              <a:rPr b="1" lang="hr-HR" sz="2200" spc="-1" strike="noStrike">
                <a:solidFill>
                  <a:srgbClr val="003366"/>
                </a:solidFill>
                <a:latin typeface="Tahoma"/>
              </a:rPr>
              <a:t>)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č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ija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je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svrha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da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na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bazi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razmene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iskustava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u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automatskom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š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ifriranju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uzroka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smrti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razvije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jednostavnije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softwere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koji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ć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e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imati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š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iru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primenu</a:t>
            </a:r>
            <a:r>
              <a:rPr b="0" lang="hr-HR" sz="22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1:34:10Z</dcterms:created>
  <dc:creator>Roberta</dc:creator>
  <dc:description/>
  <dc:language>en-US</dc:language>
  <cp:lastModifiedBy>IZJZ</cp:lastModifiedBy>
  <dcterms:modified xsi:type="dcterms:W3CDTF">2010-10-27T06:51:15Z</dcterms:modified>
  <cp:revision>53</cp:revision>
  <dc:subject/>
  <dc:title>PRIMERI „LOŠE PRAKSE“ U EVIDENCIJI PODATAKA O MORTALITETU </dc:title>
</cp:coreProperties>
</file>